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204-4BEB-47A6-8BA9-30E65EA3E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07A-2807-4241-BAD3-2B01D8A3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39C-4A9B-4FC0-BA58-F2D07E06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495-D11F-41C7-BE6E-4D2D5487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432B-E6E9-4070-9CE4-C383657F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447CF-F4C6-43CF-A96B-D531FF8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8D82-44A9-4C38-A45D-AF31C885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87D1-36D1-489C-ABA4-3C62B7A2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A777-07EB-493D-996C-DE196DE0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685B-79D8-40F8-BE17-131B00A2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DC5-B3C9-410D-85CE-52ACEE5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FCB-4D0F-4850-873F-C2FEF279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FF7-913F-4C79-BD2F-DAAEC9DE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99F8-F396-4E16-8DC3-DFE8FEA8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E05A-32F9-4741-A545-AB6B95E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9C41-F25F-4194-984D-A10B85F8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960B-F0DF-4082-8999-0A9194B6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0C9D-9E97-40DA-87E7-8F2EF506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B2D-297E-4C72-854D-C25938C1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F88D-AB54-4CC0-9119-F9AC1C4E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190-B51B-4A13-AC97-7575455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49D-0CEF-4AA5-91F7-71E6B53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9E0-F503-4125-959A-1FCE1BF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AC3-A570-4D68-B0C5-9B68C8B2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A2CC-0A09-4A9D-99DB-4E6EDB292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8F5F-A3EF-4B38-A338-B7BE92143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5400" spc="-1" strike="noStrike">
                <a:solidFill>
                  <a:srgbClr val="feec94"/>
                </a:solidFill>
                <a:latin typeface="Times New Roman"/>
              </a:rPr>
              <a:t>Toamna se numără bobocii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narea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şi scădere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u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or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 naturale de la 0 la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eec94"/>
                </a:solidFill>
                <a:latin typeface="Times New Roman"/>
              </a:rPr>
              <a:t>Compararea şi ordonarea numerelor natural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ranjăm numere în şiruri crescătoare şi descrescăto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Numărăm după reguli d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Continuăm şiruri încep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895480" y="4038480"/>
            <a:ext cx="3657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Adunăm şi scădem până la 30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dunări şi scăderi fără trecere peste or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Adunări şi scăderi cu trecere peste ord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71800" y="3276720"/>
            <a:ext cx="3429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flarea termenului necunoscu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2743200" cy="2033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23880" y="4572000"/>
            <a:ext cx="138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26668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228600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266688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971800" cy="1968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81680" y="457200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PROIEC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MATEMATICA  ÎN  MESER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762280" cy="1657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914640" y="2467080"/>
            <a:ext cx="1314720" cy="1923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791320" y="259092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Rezolvăm problem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3353040" cy="3200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97120" y="1676520"/>
            <a:ext cx="63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untem mai de</a:t>
            </a:r>
            <a:r>
              <a:rPr b="1" lang="ro-RO" sz="4400" spc="-1" strike="noStrike">
                <a:solidFill>
                  <a:srgbClr val="feec94"/>
                </a:solidFill>
                <a:latin typeface="Times New Roman"/>
              </a:rPr>
              <a:t>ştepţi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re: </a:t>
            </a:r>
            <a:r>
              <a:rPr b="0" lang="ro-RO" sz="3200" spc="-1" strike="noStrike">
                <a:solidFill>
                  <a:srgbClr val="ffffff"/>
                </a:solidFill>
                <a:latin typeface="Times New Roman"/>
              </a:rPr>
              <a:t>Portofoliul trebuie să conţină un interviu, concluziile privind legătura matematicii cu o meserie aleasă de voi, prezentate sub formă de planşă în ultima oră a unităţii de învăţ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0:30:13Z</dcterms:created>
  <dc:creator>Albert Hajnalka</dc:creator>
  <dc:description/>
  <dc:language>en-US</dc:language>
  <cp:lastModifiedBy> </cp:lastModifiedBy>
  <dcterms:modified xsi:type="dcterms:W3CDTF">2010-09-13T13:29:08Z</dcterms:modified>
  <cp:revision>4</cp:revision>
  <dc:subject/>
  <dc:title>Toamna se numără bobocii</dc:title>
</cp:coreProperties>
</file>